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E16FC-EB14-461B-85F7-608AFF2A4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7948F-CB9D-4942-B0A2-EFDF745FB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C6B74-C472-4FDE-9801-554D3EBF9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4B6F1-F43C-4544-8FC0-0EC8C9262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121EE-2816-4C1A-A638-B7ECAEF09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56E9-D4D8-425F-9700-8B7F09BD0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DC74-D058-4326-B097-4DFEE7D4C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0C696-CD48-4BF4-9B40-9308527C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937DE-AB25-46B7-9BFA-3B47F0C51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BBC1F-E047-448D-9C01-9B0E10E1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6D0A-CB0A-4B10-B7E3-16052E5F1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34CB-DE75-4762-AC6C-65A964283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B0A0-A3D4-484E-B70D-796A3036C101}"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2D59-571E-4FD2-A8A4-AA1FADE71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gler for bruk av Stopp</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CABE0452-7185-4154-9A88-C972F2C5EA44}" type="slidenum">
              <a:t>1</a:t>
            </a:fld>
          </a:p>
        </p:txBody>
      </p:sp>
      <p:sp>
        <p:nvSpPr>
          <p:cNvPr id="6" name="PlaceHolder 5"/>
          <p:cNvSpPr>
            <a:spLocks noGrp="1"/>
          </p:cNvSpPr>
          <p:nvPr>
            <p:ph type="dt" idx="1"/>
          </p:nvPr>
        </p:nvSpPr>
        <p:spPr/>
        <p:txBody>
          <a:bodyPr/>
          <a:p>
            <a:fld id="{A55077E7-036E-4E96-BC0B-2E12CB3A7F2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Generelt</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opp brukes for å gi motparten omlag 10  sekunders obligatorisk tenkepause etter en melding som må forventes å kunne utløse behov for omtanke. Tenkepauser er vanligst etter åpning på totrinnet og høyere, etter en hoppmelding og i konkurransepregede meldingsforløp fra 3 trinnet og oppover.</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En Stopp-pause starter etter at  motparten har fått svar på eventuelle spørsmål om betydningen av en eller flere meldinger. Pausen skal vare ca 10 sekunder og det er spilleren som har vist Stoppkortet (eller sagt stopp) som markerer når pausen er slut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FE611FC8-1577-475D-8F8D-640AF8E7333E}" type="slidenum">
              <a:t>2</a:t>
            </a:fld>
          </a:p>
        </p:txBody>
      </p:sp>
      <p:sp>
        <p:nvSpPr>
          <p:cNvPr id="6" name="PlaceHolder 5"/>
          <p:cNvSpPr>
            <a:spLocks noGrp="1"/>
          </p:cNvSpPr>
          <p:nvPr>
            <p:ph type="dt" idx="1"/>
          </p:nvPr>
        </p:nvSpPr>
        <p:spPr/>
        <p:txBody>
          <a:bodyPr/>
          <a:p>
            <a:fld id="{03108806-99B7-4827-84DE-3F00993BBA3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opp med obligatorisk tenkepause</a:t>
            </a:r>
            <a:endParaRPr b="0" lang="en-US" sz="3600" spc="-1" strike="noStrike">
              <a:solidFill>
                <a:srgbClr val="000066"/>
              </a:solidFill>
              <a:latin typeface="Times New Roman"/>
            </a:endParaRPr>
          </a:p>
        </p:txBody>
      </p:sp>
      <p:sp>
        <p:nvSpPr>
          <p:cNvPr id="4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t  skal markeres pause med Stoppkort eller ved å si Stopp  </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åpningsbud på totrinnet eller høyere.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bud med hopp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meldinger, unntatt pass, i alle konkurransepregede meldingsforløp fra 3 trinnet og oppover. </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n spiller som legger frem Stoppkortet eller sier Stopp tvinger VM til å vente med meldingen til kortet er tatt vekk igjen eller at det er sagt fortsett.</a:t>
            </a:r>
            <a:endParaRPr b="0" lang="en-US" sz="2000" spc="-1" strike="noStrike">
              <a:solidFill>
                <a:srgbClr val="990000"/>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VM har etter denne regelen alltid rett til 10 sekunders pause i de nevnte situasjonene uavhengig av om Stoppkort brukes.</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Det er korrekt tempo å vente disse sekundene  En pause som er tydelig lenger enn 10 sekunder eller tydelig kortere enn 10 sekunder antas derfor å kunne formidle urettmessig informasjon, selv om HM ikke har vist Stoppkort eller sagt Stopp.</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pillernes variasjoner i tempo kan fortsatt formidle urettmessig informasjon også innenfor de nye grensene.</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78D9B6D8-BFAB-403E-A6A7-2B2CCF59C419}" type="slidenum">
              <a:t>3</a:t>
            </a:fld>
          </a:p>
        </p:txBody>
      </p:sp>
      <p:sp>
        <p:nvSpPr>
          <p:cNvPr id="6" name="PlaceHolder 5"/>
          <p:cNvSpPr>
            <a:spLocks noGrp="1"/>
          </p:cNvSpPr>
          <p:nvPr>
            <p:ph type="dt" idx="1"/>
          </p:nvPr>
        </p:nvSpPr>
        <p:spPr/>
        <p:txBody>
          <a:bodyPr/>
          <a:p>
            <a:fld id="{7D74CD71-4F00-4CF2-B9FC-21AD83EF321F}"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Retten til pause defineres likt uavhengig av om Stopp blir korrekt brukt eller ikke.  Svært rask eller svært sen aksjon kan formidle urettmessig informasjon og dermed begrense makkers valgmuligheter. Spillere som ikke holder korrekt tempo skal vurderes mildt når Stopp ikke er bruk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0974EFAE-33EE-4887-8A87-F841A64C22F8}" type="slidenum">
              <a:t>4</a:t>
            </a:fld>
          </a:p>
        </p:txBody>
      </p:sp>
      <p:sp>
        <p:nvSpPr>
          <p:cNvPr id="6" name="PlaceHolder 5"/>
          <p:cNvSpPr>
            <a:spLocks noGrp="1"/>
          </p:cNvSpPr>
          <p:nvPr>
            <p:ph type="dt" idx="1"/>
          </p:nvPr>
        </p:nvSpPr>
        <p:spPr/>
        <p:txBody>
          <a:bodyPr/>
          <a:p>
            <a:fld id="{68836833-3D9A-4E8D-9CC1-F3EDD8398F6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I</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Konkurransepreget meldingsforløp anses å gjelde når begge sider har meldt i løpet av totrinnet. Dersom en side ikke melder på tretrinnet eller passer en hel melderunde opphører bruk av Stopp, men gjenopptas dersom begge sider igjen meld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063B9AED-2B5E-4FE9-8E7C-C0F89AA499F9}" type="slidenum">
              <a:t>5</a:t>
            </a:fld>
          </a:p>
        </p:txBody>
      </p:sp>
      <p:sp>
        <p:nvSpPr>
          <p:cNvPr id="6" name="PlaceHolder 5"/>
          <p:cNvSpPr>
            <a:spLocks noGrp="1"/>
          </p:cNvSpPr>
          <p:nvPr>
            <p:ph type="dt" idx="1"/>
          </p:nvPr>
        </p:nvSpPr>
        <p:spPr/>
        <p:txBody>
          <a:bodyPr/>
          <a:p>
            <a:fld id="{43A8B7BE-3768-4493-AE03-51C096A2F22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5:52:46Z</dcterms:created>
  <dc:creator>Per Nordland</dc:creator>
  <dc:description/>
  <dc:language>en-US</dc:language>
  <cp:lastModifiedBy>Per Nordland</cp:lastModifiedBy>
  <dcterms:modified xsi:type="dcterms:W3CDTF">2002-06-01T20:43:26Z</dcterms:modified>
  <cp:revision>4</cp:revision>
  <dc:subject/>
  <dc:title>Regler for bruk av Stopp</dc:title>
</cp:coreProperties>
</file>